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C7F-E802-46DA-8461-BAB9721A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85F-FF5F-4DC8-974A-2BF3A5C9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90F-8A15-4776-A938-39C9BC56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D71-A512-44EC-B428-17417AE6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8BC4-56A6-4E8F-B29D-50190BA7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A09E-1F81-4887-9CF2-41817DFF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1735-FF63-493D-AC44-A4CEBE26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7FD8-C15B-4CDC-AE04-8DDC1CA3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5B4D-BA08-47D5-A4FF-47A0D08D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F1E9-9EC5-4ABD-9BB0-84E8E8C5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0236-8DD5-444E-902C-905FE29D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005-7BBF-47B8-B5B2-76AE3AD2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D5E6-AC07-4074-B167-AC017803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D001-74EC-445F-A62C-435A8A93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0D6D-849E-4699-9BC7-2494B414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7DDE-C067-4C07-8113-0792AEB4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285D-DB4E-429D-A341-527BE6B1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7D33C-A7DB-4980-B4C1-691B937F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5427-621D-4654-AFC3-BF7076E6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79B6-BBA5-423A-A48E-7EEB8576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BEA76-BB1E-4D4B-B470-D79A5A59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9AAF2-96A9-43A8-96AC-FEA01A5C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4AE-2E2E-4047-ADD7-4E70401C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C864E-2575-48A7-8DF3-3844D5FD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69C05-D66B-4BC7-A87A-7356D7FF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2845-7E84-4135-AFAE-8D018895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C03EA-E0C9-46CD-9C49-C65D1477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5502E-9CD8-4683-94B3-AABEADE2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DCB69-0EA0-4C5E-9EFA-760A9D16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69DE1-D4E0-4B9E-ADFC-BC22CB40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7FE-67D1-46F5-8DE0-BE79A6B1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98F-F96D-458C-B3DA-E6D8B8F9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D2A-894E-4596-B5C4-202D210E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AAE-3595-4A2D-89F9-864EC75E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7AC-BC72-42B8-8F9E-B7385A16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0B7-9145-4E6F-BB02-04A8AC5A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879B-A875-470C-8099-4D206A372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3B7C-D029-49B9-89E3-0779566B2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56CE-D12F-4840-A06A-EB99BF481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685800" y="20718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ПРЕДМЕТ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нглески језик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85800" y="260496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СТУДИЈСКИ ПРОРАМ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формациони системи и техноло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" y="32907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ВРСТА И НИВО СТУДИЈ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сновне академск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08120" y="3976560"/>
            <a:ext cx="71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СТАТУС ПРЕДМЕТА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бо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88680" y="1447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НАСТАВН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5546520" y="1447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САРАДН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380880" y="2071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Мр Гордана Јак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5038560" y="2057400"/>
            <a:ext cx="31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Јелена Плећ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276720" y="11430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ЦИЉ ПРЕДМEТ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00400" y="28198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ИСХОД ПРЕДМЕТА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200400" y="39628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МЕТОДЕ ИЗВОЂЕЊА НАСТАВЕ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371600" y="4768920"/>
          <a:ext cx="6078600" cy="1096920"/>
        </p:xfrm>
        <a:graphic>
          <a:graphicData uri="http://schemas.openxmlformats.org/drawingml/2006/table">
            <a:tbl>
              <a:tblPr/>
              <a:tblGrid>
                <a:gridCol w="2060640"/>
                <a:gridCol w="1203120"/>
                <a:gridCol w="2043360"/>
                <a:gridCol w="771480"/>
              </a:tblGrid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а  знања (максимални број поена 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испитне обаве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ршни испи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оквију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исмени исп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УП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C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32"/>
          <p:cNvSpPr/>
          <p:nvPr/>
        </p:nvSpPr>
        <p:spPr>
          <a:xfrm>
            <a:off x="228600" y="1523880"/>
            <a:ext cx="845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стематско изграђивање адекватног вокабулара и употпуњавање знања основа граматике уз ра-вномерно увежбавање основних вештина (reading, writing, listening &amp; speaking). Посебан нагласак ставља се на превођење стручних текстова. Оспособљавање студената за превођење стручне ли-тературе са енглеског на српски језик, правилна комуникација у свим основним областима енгле-ског пословног јез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3"/>
          <p:cNvSpPr/>
          <p:nvPr/>
        </p:nvSpPr>
        <p:spPr>
          <a:xfrm>
            <a:off x="228600" y="3048120"/>
            <a:ext cx="845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уденти ће унапредити знање пословне терминологије на енглеском језику, утврдити и побољшати познавање граматике  и развити језичке вештине, а посебно вештине превођења стручних текстова са енглеског на српски језик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4"/>
          <p:cNvSpPr/>
          <p:nvPr/>
        </p:nvSpPr>
        <p:spPr>
          <a:xfrm>
            <a:off x="228600" y="42670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авања, дискусије, рад у паровима и група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04920" y="1066680"/>
          <a:ext cx="8534160" cy="3949920"/>
        </p:xfrm>
        <a:graphic>
          <a:graphicData uri="http://schemas.openxmlformats.org/drawingml/2006/table">
            <a:tbl>
              <a:tblPr/>
              <a:tblGrid>
                <a:gridCol w="990360"/>
                <a:gridCol w="2362320"/>
                <a:gridCol w="609480"/>
                <a:gridCol w="4572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е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Inter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through His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 Standards Ma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да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04920" y="1397160"/>
          <a:ext cx="8534160" cy="4630680"/>
        </p:xfrm>
        <a:graphic>
          <a:graphicData uri="http://schemas.openxmlformats.org/drawingml/2006/table">
            <a:tbl>
              <a:tblPr/>
              <a:tblGrid>
                <a:gridCol w="990360"/>
                <a:gridCol w="2362320"/>
                <a:gridCol w="609480"/>
                <a:gridCol w="457200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е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Manageme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Entrepreneurship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Rel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Man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Man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да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04920" y="1397160"/>
          <a:ext cx="8534160" cy="1833480"/>
        </p:xfrm>
        <a:graphic>
          <a:graphicData uri="http://schemas.openxmlformats.org/drawingml/2006/table">
            <a:tbl>
              <a:tblPr/>
              <a:tblGrid>
                <a:gridCol w="990360"/>
                <a:gridCol w="2362320"/>
                <a:gridCol w="609480"/>
                <a:gridCol w="4572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е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Man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ovation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Re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ng Business Termi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да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2745720" y="1523880"/>
            <a:ext cx="17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04920" y="2062440"/>
            <a:ext cx="7696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ордана Матић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 Correspondence and Business Terms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ОН, Београд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ордана Митић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Reading Texts, Short English Grammar Book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ОН, Београд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ордана Матић, Ана Ковачевић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Business English Practice Tests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ФОН, Београд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Oxford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Oxford Dictionary of Business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Oxford University Press, 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.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рис Хлебец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Граматика Енглеског Језик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Издање аутора, 199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.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Carter McCarthy,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Cambridge Grammar of English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Cambridge University Press, 200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632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глески јези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fon</cp:lastModifiedBy>
  <dcterms:modified xsi:type="dcterms:W3CDTF">2010-05-11T09:19:51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